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0827A-B933-42A2-99C3-6BC082B98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C2D31-D219-4579-8285-A93A1B5B2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F482B-CB7B-46C6-8378-DDB9AF643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E0BDB-476C-4227-A205-C335106DD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975C4-183E-4CB2-B2F9-24C65B892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F3932-DDA4-46D6-99F4-239C07AB6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33B2C-BBD6-401B-A634-385D6F444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D1C11-3259-4DF3-AE01-D60E7A134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BEC35-2C4F-4FE7-BEB8-F88F0D62F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26DD1-4A07-4949-B174-D0893113B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6E383-5D19-4E27-BD5A-BF30F1CE2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E5B61-FBCC-460B-889D-B23AC7224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50E98-BE93-487D-BFAC-E7F670DEC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42D46-C152-4610-A5A2-4F4363DDB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156CE-30DE-4BC8-A52B-5A7F5626A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48FB5-1482-4F20-AA81-CE2599717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77D7D-90B4-4FB5-8921-5C4A76589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4B805-E3F7-4BE0-8853-0D753FBF4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77BE3-29AA-4F1E-8725-6E12666F6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BA7A2-42F9-4817-A04C-EB9DCF630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DF22D-F964-418B-97A0-B05E0A687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C7C37-12A0-4988-9548-1FB7A7DC2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4C9D8-35B7-40E3-BF41-B8652D746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112EF-94C1-4D3F-97B3-3DB6B74C9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D4D41-10F6-4D96-8949-9BCEA180879D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D165A-D815-4EB3-9D42-C808998D46BD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f1311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f131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79af7d"/>
                </a:solidFill>
                <a:latin typeface="comic"/>
              </a:rPr>
              <a:t>OF WHALES AND WONDER</a:t>
            </a:r>
            <a:endParaRPr b="0" lang="en-US" sz="48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37160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9af7d"/>
                </a:solidFill>
                <a:latin typeface="comic"/>
              </a:rPr>
              <a:t>LISA RASPANTI &amp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9af7d"/>
                </a:solidFill>
                <a:latin typeface="comic"/>
              </a:rPr>
              <a:t>KERRI COBURN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slow" advTm="5000">
    <p:diamond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9af7d"/>
                </a:solidFill>
                <a:latin typeface="comic"/>
              </a:rPr>
              <a:t>Reluctant</a:t>
            </a:r>
            <a:r>
              <a:rPr b="0" lang="en-US" sz="2400" spc="-1" strike="noStrike">
                <a:solidFill>
                  <a:srgbClr val="f7d47d"/>
                </a:solidFill>
                <a:latin typeface="comic"/>
              </a:rPr>
              <a:t> </a:t>
            </a:r>
            <a:r>
              <a:rPr b="0" lang="en-US" sz="4000" spc="-1" strike="noStrike">
                <a:solidFill>
                  <a:srgbClr val="79af7d"/>
                </a:solidFill>
                <a:latin typeface="comic"/>
              </a:rPr>
              <a:t>Learners - or Are They?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Many children and adolescents who are labeled “reluctant learners” are anything but reluctant to learn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ey utilize a great deal of energy on activities that engage them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eir imagination is often unable to connect with the curriculum provided in school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slow" advTm="14000">
    <p:diamond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9af7d"/>
                </a:solidFill>
                <a:latin typeface="comic"/>
              </a:rPr>
              <a:t>Making the curriculum more engaging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Lev Vygotsky (1962,1997) suggests that the imaginations of “reluctant learners” can be engaged through using cognitive tools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ognitive tools enhance an individual’s ability to: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660960" indent="-254160" algn="ctr">
              <a:lnSpc>
                <a:spcPct val="8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nk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660960" indent="-254160" algn="ctr">
              <a:lnSpc>
                <a:spcPct val="8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ommunicate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660960" indent="-254160" algn="ctr">
              <a:lnSpc>
                <a:spcPct val="8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Understand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 Black"/>
              </a:rPr>
              <a:t>	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slow" advTm="12000"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79af7d"/>
                </a:solidFill>
                <a:latin typeface="comic"/>
              </a:rPr>
              <a:t>Cognitive</a:t>
            </a:r>
            <a:r>
              <a:rPr b="0" lang="en-US" sz="4800" spc="-1" strike="noStrike">
                <a:solidFill>
                  <a:srgbClr val="f7d47d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79af7d"/>
                </a:solidFill>
                <a:latin typeface="comic"/>
              </a:rPr>
              <a:t>Tools</a:t>
            </a:r>
            <a:endParaRPr b="0" lang="en-US" sz="48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Any child who has mastered oral language has many tools available for learning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ree oral language tools described are: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2f1311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tory Structuring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2f1311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Binary Opposites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2f1311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orming Images from Words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slow" advTm="13000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9af7d"/>
                </a:solidFill>
                <a:latin typeface="comic"/>
              </a:rPr>
              <a:t>STORY STRUCTURING</a:t>
            </a: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hapes experiences and knowledge into forms that establish their emotional meaning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Helps us understand how we feel about events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When used in teaching we should ask ourselves how to make the factual content clear while bring out emotional importance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slow" advTm="10000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9af7d"/>
                </a:solidFill>
                <a:latin typeface="comic"/>
              </a:rPr>
              <a:t>BINARY OPPOSITES</a:t>
            </a: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Bruno Bettelheim (1976) noted that children “bring order into their world by dividing everything into opposites”(p.74)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Used in many fairy tales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mple opposites are not adequate to describe the complexity of the world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slow" advTm="10000"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9af7d"/>
                </a:solidFill>
                <a:latin typeface="comic"/>
              </a:rPr>
              <a:t>FORMING IMAGES FROM WORDS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Descriptions which enable us to form images in our heads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Effective in engaging our imaginations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Helping us to retain facts, events and ideas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Important to search for emotionally charges images in curriculum topics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slow" advTm="10000"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7d47d"/>
                </a:solidFill>
                <a:latin typeface="comic"/>
              </a:rPr>
              <a:t>Summary</a:t>
            </a: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Utilizing cognitive tools makes education more engaging and human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uch tools will enable “reluctant learners” to engage in the learning process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slow" advTm="10000"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2T13:34:45Z</dcterms:created>
  <dc:creator>Rockland BOCES</dc:creator>
  <dc:description/>
  <dc:language>en-US</dc:language>
  <cp:lastModifiedBy>North Rockland High School</cp:lastModifiedBy>
  <dcterms:modified xsi:type="dcterms:W3CDTF">2008-04-02T20:01:07Z</dcterms:modified>
  <cp:revision>9</cp:revision>
  <dc:subject/>
  <dc:title>OF WHALES AND WONDER</dc:title>
</cp:coreProperties>
</file>